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64B-7D21-49DC-986B-EAAD1167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5DC-59EA-4F7B-B3E5-3259D62A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0FB-DB81-445D-9BD6-691AA5EC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E2D-2DCA-496D-B649-6E8F8680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3D1-823F-4A93-93EA-3E7C30C5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401-F96D-40CB-9FCF-F60B6EF0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A46-D1C8-401E-8ED3-83FE19BC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0E4-6FFC-4A15-B08C-0A14F5EC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830-56C6-4DFD-9C91-8C76785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864-5449-41BA-927F-26F1FADC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0A0-70F4-4BD8-AAE8-1BEE8181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24C-4FCC-46A1-84FF-268EC21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982F-5CAF-4308-BADC-8221C9FBC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chad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1523880"/>
            <a:ext cx="34034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and improv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3623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603252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yBase - Harv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436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439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442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445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448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451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454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459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463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476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479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482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491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504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505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508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511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514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522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52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53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53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53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54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3657600" y="457200"/>
            <a:ext cx="5142960" cy="6400800"/>
            <a:chOff x="3657600" y="457200"/>
            <a:chExt cx="5142960" cy="6400800"/>
          </a:xfrm>
        </p:grpSpPr>
        <p:grpSp>
          <p:nvGrpSpPr>
            <p:cNvPr id="572" name=""/>
            <p:cNvGrpSpPr/>
            <p:nvPr/>
          </p:nvGrpSpPr>
          <p:grpSpPr>
            <a:xfrm>
              <a:off x="3886200" y="4876920"/>
              <a:ext cx="1295280" cy="1218960"/>
              <a:chOff x="3886200" y="4876920"/>
              <a:chExt cx="1295280" cy="1218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886200" y="48769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6200" y="48769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657600" y="457200"/>
              <a:ext cx="1752480" cy="1485720"/>
              <a:chOff x="3657600" y="457200"/>
              <a:chExt cx="1752480" cy="1485720"/>
            </a:xfrm>
          </p:grpSpPr>
          <p:sp>
            <p:nvSpPr>
              <p:cNvPr id="576" name=""/>
              <p:cNvSpPr/>
              <p:nvPr/>
            </p:nvSpPr>
            <p:spPr>
              <a:xfrm>
                <a:off x="3657600" y="4572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7600" y="4572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5142960" y="51055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448600" y="1600200"/>
              <a:ext cx="914040" cy="1523880"/>
              <a:chOff x="5448600" y="1600200"/>
              <a:chExt cx="914040" cy="1523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970960" y="16002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70960" y="31240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448600" y="16002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152960" y="6095880"/>
              <a:ext cx="1827000" cy="533520"/>
              <a:chOff x="4152960" y="6095880"/>
              <a:chExt cx="1827000" cy="533520"/>
            </a:xfrm>
          </p:grpSpPr>
          <p:sp>
            <p:nvSpPr>
              <p:cNvPr id="584" name=""/>
              <p:cNvSpPr/>
              <p:nvPr/>
            </p:nvSpPr>
            <p:spPr>
              <a:xfrm>
                <a:off x="4152960" y="60958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52960" y="66294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981760" y="5715000"/>
              <a:ext cx="2818800" cy="1143000"/>
              <a:chOff x="5981760" y="5715000"/>
              <a:chExt cx="2818800" cy="1143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1760" y="57150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81760" y="57150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115120" y="2972520"/>
              <a:ext cx="380880" cy="2742480"/>
              <a:chOff x="8115120" y="2972520"/>
              <a:chExt cx="380880" cy="274248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8496000" y="29725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115120" y="29725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533840" y="3505680"/>
              <a:ext cx="1827000" cy="1371240"/>
              <a:chOff x="4533840" y="3505680"/>
              <a:chExt cx="1827000" cy="137124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4533840" y="35056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33840" y="35056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838760" y="3962520"/>
              <a:ext cx="1522440" cy="914400"/>
              <a:chOff x="4838760" y="3962520"/>
              <a:chExt cx="1522440" cy="91440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838760" y="39625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38760" y="39625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7360" y="4190760"/>
              <a:ext cx="1293840" cy="685800"/>
              <a:chOff x="5067360" y="4190760"/>
              <a:chExt cx="1293840" cy="6858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5067360" y="41907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67360" y="41907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362640" y="2057400"/>
              <a:ext cx="1752480" cy="2209680"/>
              <a:chOff x="6362640" y="2057400"/>
              <a:chExt cx="1752480" cy="2209680"/>
            </a:xfrm>
          </p:grpSpPr>
          <p:sp>
            <p:nvSpPr>
              <p:cNvPr id="602" name=""/>
              <p:cNvSpPr/>
              <p:nvPr/>
            </p:nvSpPr>
            <p:spPr>
              <a:xfrm>
                <a:off x="6362640" y="20574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62640" y="20574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228920" y="3276720"/>
              <a:ext cx="2131560" cy="1599840"/>
              <a:chOff x="4228920" y="3276720"/>
              <a:chExt cx="2131560" cy="1599840"/>
            </a:xfrm>
          </p:grpSpPr>
          <p:sp>
            <p:nvSpPr>
              <p:cNvPr id="605" name=""/>
              <p:cNvSpPr/>
              <p:nvPr/>
            </p:nvSpPr>
            <p:spPr>
              <a:xfrm flipV="1">
                <a:off x="4228920" y="32767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28920" y="32767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514920" y="4266720"/>
              <a:ext cx="1295640" cy="381600"/>
              <a:chOff x="6514920" y="4266720"/>
              <a:chExt cx="1295640" cy="38160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514920" y="4267080"/>
                <a:ext cx="1294200" cy="381240"/>
                <a:chOff x="6514920" y="4267080"/>
                <a:chExt cx="1294200" cy="3812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514920" y="42670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14920" y="46483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V="1">
                <a:off x="7810560" y="42667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6286320" y="46483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438960" y="457200"/>
              <a:ext cx="1752480" cy="1143000"/>
              <a:chOff x="6438960" y="457200"/>
              <a:chExt cx="1752480" cy="1143000"/>
            </a:xfrm>
          </p:grpSpPr>
          <p:sp>
            <p:nvSpPr>
              <p:cNvPr id="614" name=""/>
              <p:cNvSpPr/>
              <p:nvPr/>
            </p:nvSpPr>
            <p:spPr>
              <a:xfrm>
                <a:off x="6438960" y="4572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38960" y="4572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448240" y="1066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0" y="2514600"/>
            <a:ext cx="8153280" cy="2133720"/>
            <a:chOff x="0" y="2514600"/>
            <a:chExt cx="8153280" cy="2133720"/>
          </a:xfrm>
        </p:grpSpPr>
        <p:sp>
          <p:nvSpPr>
            <p:cNvPr id="618" name=""/>
            <p:cNvSpPr/>
            <p:nvPr/>
          </p:nvSpPr>
          <p:spPr>
            <a:xfrm>
              <a:off x="6400800" y="3124080"/>
              <a:ext cx="1752480" cy="914400"/>
            </a:xfrm>
            <a:prstGeom prst="rect">
              <a:avLst/>
            </a:prstGeom>
            <a:noFill/>
            <a:ln w="69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14600"/>
              <a:ext cx="2819520" cy="2133720"/>
            </a:xfrm>
            <a:prstGeom prst="rect">
              <a:avLst/>
            </a:prstGeom>
            <a:solidFill>
              <a:srgbClr val="ffff00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servable_id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tr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 leth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alue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9" idx="3"/>
              <a:endCxn id="618" idx="1"/>
            </p:cNvCxnSpPr>
            <p:nvPr/>
          </p:nvCxnSpPr>
          <p:spPr>
            <a:xfrm>
              <a:off x="2819160" y="3580920"/>
              <a:ext cx="3547080" cy="1080"/>
            </a:xfrm>
            <a:prstGeom prst="straightConnector1">
              <a:avLst/>
            </a:prstGeom>
            <a:ln w="66600">
              <a:solidFill>
                <a:srgbClr val="ffff00"/>
              </a:solidFill>
              <a:miter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22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26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30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34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37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649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652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664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 | 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7" idx="4"/>
            <a:endCxn id="668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71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8" idx="5"/>
            <a:endCxn id="672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78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79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86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20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2514600"/>
            <a:ext cx="1447560" cy="91440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52280" y="5181480"/>
            <a:ext cx="3353040" cy="685800"/>
            <a:chOff x="152280" y="5181480"/>
            <a:chExt cx="3353040" cy="685800"/>
          </a:xfrm>
        </p:grpSpPr>
        <p:sp>
          <p:nvSpPr>
            <p:cNvPr id="727" name=""/>
            <p:cNvSpPr/>
            <p:nvPr/>
          </p:nvSpPr>
          <p:spPr>
            <a:xfrm>
              <a:off x="15228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9092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9480" y="3886200"/>
            <a:ext cx="450000" cy="773280"/>
            <a:chOff x="609480" y="3886200"/>
            <a:chExt cx="450000" cy="773280"/>
          </a:xfrm>
        </p:grpSpPr>
        <p:grpSp>
          <p:nvGrpSpPr>
            <p:cNvPr id="731" name=""/>
            <p:cNvGrpSpPr/>
            <p:nvPr/>
          </p:nvGrpSpPr>
          <p:grpSpPr>
            <a:xfrm>
              <a:off x="609480" y="3886200"/>
              <a:ext cx="447840" cy="773280"/>
              <a:chOff x="609480" y="3886200"/>
              <a:chExt cx="447840" cy="773280"/>
            </a:xfrm>
          </p:grpSpPr>
          <p:sp>
            <p:nvSpPr>
              <p:cNvPr id="732" name=""/>
              <p:cNvSpPr/>
              <p:nvPr/>
            </p:nvSpPr>
            <p:spPr>
              <a:xfrm>
                <a:off x="6094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094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105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523880" y="3886200"/>
            <a:ext cx="450000" cy="773280"/>
            <a:chOff x="1523880" y="3886200"/>
            <a:chExt cx="450000" cy="773280"/>
          </a:xfrm>
        </p:grpSpPr>
        <p:grpSp>
          <p:nvGrpSpPr>
            <p:cNvPr id="736" name=""/>
            <p:cNvGrpSpPr/>
            <p:nvPr/>
          </p:nvGrpSpPr>
          <p:grpSpPr>
            <a:xfrm>
              <a:off x="1523880" y="3886200"/>
              <a:ext cx="447840" cy="773280"/>
              <a:chOff x="1523880" y="3886200"/>
              <a:chExt cx="447840" cy="773280"/>
            </a:xfrm>
          </p:grpSpPr>
          <p:sp>
            <p:nvSpPr>
              <p:cNvPr id="737" name=""/>
              <p:cNvSpPr/>
              <p:nvPr/>
            </p:nvSpPr>
            <p:spPr>
              <a:xfrm>
                <a:off x="15238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5238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5249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74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74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23" idx="4"/>
            <a:endCxn id="724" idx="0"/>
          </p:cNvCxnSpPr>
          <p:nvPr/>
        </p:nvCxnSpPr>
        <p:spPr>
          <a:xfrm flipV="1" rot="10800000">
            <a:off x="1713960" y="2133360"/>
            <a:ext cx="10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"/>
          <p:cNvCxnSpPr>
            <a:stCxn id="724" idx="3"/>
            <a:endCxn id="732" idx="0"/>
          </p:cNvCxnSpPr>
          <p:nvPr/>
        </p:nvCxnSpPr>
        <p:spPr>
          <a:xfrm rot="5400000">
            <a:off x="722520" y="3405960"/>
            <a:ext cx="591120" cy="370800"/>
          </a:xfrm>
          <a:prstGeom prst="curvedConnector5">
            <a:avLst>
              <a:gd name="adj1" fmla="val 61243"/>
              <a:gd name="adj2" fmla="val 49951"/>
              <a:gd name="adj3" fmla="val 612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24" idx="4"/>
            <a:endCxn id="737" idx="0"/>
          </p:cNvCxnSpPr>
          <p:nvPr/>
        </p:nvCxnSpPr>
        <p:spPr>
          <a:xfrm flipH="1" rot="16200000">
            <a:off x="1502640" y="3640680"/>
            <a:ext cx="457920" cy="33840"/>
          </a:xfrm>
          <a:prstGeom prst="curvedConnector5">
            <a:avLst>
              <a:gd name="adj1" fmla="val 49960"/>
              <a:gd name="adj2" fmla="val 49462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24" idx="5"/>
            <a:endCxn id="744" idx="0"/>
          </p:cNvCxnSpPr>
          <p:nvPr/>
        </p:nvCxnSpPr>
        <p:spPr>
          <a:xfrm flipH="1" rot="16200000">
            <a:off x="2148480" y="3371760"/>
            <a:ext cx="667440" cy="515160"/>
          </a:xfrm>
          <a:prstGeom prst="curvedConnector5">
            <a:avLst>
              <a:gd name="adj1" fmla="val 59956"/>
              <a:gd name="adj2" fmla="val 50000"/>
              <a:gd name="adj3" fmla="val 5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8377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521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284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0"/>
            <a:endCxn id="727" idx="0"/>
          </p:cNvCxnSpPr>
          <p:nvPr/>
        </p:nvCxnSpPr>
        <p:spPr>
          <a:xfrm rot="5400000">
            <a:off x="459720" y="4809960"/>
            <a:ext cx="521280" cy="223200"/>
          </a:xfrm>
          <a:prstGeom prst="curvedConnector5">
            <a:avLst>
              <a:gd name="adj1" fmla="val 49689"/>
              <a:gd name="adj2" fmla="val 49919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38" idx="0"/>
            <a:endCxn id="728" idx="0"/>
          </p:cNvCxnSpPr>
          <p:nvPr/>
        </p:nvCxnSpPr>
        <p:spPr>
          <a:xfrm flipH="1" rot="16200000">
            <a:off x="1526400" y="4879800"/>
            <a:ext cx="521280" cy="83160"/>
          </a:xfrm>
          <a:prstGeom prst="curvedConnector5">
            <a:avLst>
              <a:gd name="adj1" fmla="val 49689"/>
              <a:gd name="adj2" fmla="val 50000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"/>
          <p:cNvCxnSpPr>
            <a:stCxn id="743" idx="0"/>
            <a:endCxn id="729" idx="0"/>
          </p:cNvCxnSpPr>
          <p:nvPr/>
        </p:nvCxnSpPr>
        <p:spPr>
          <a:xfrm flipH="1" rot="16200000">
            <a:off x="2630880" y="4765320"/>
            <a:ext cx="521280" cy="311760"/>
          </a:xfrm>
          <a:prstGeom prst="curvedConnector5">
            <a:avLst>
              <a:gd name="adj1" fmla="val 49689"/>
              <a:gd name="adj2" fmla="val 49942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75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75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76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76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76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77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77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8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8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9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1" idx="4"/>
            <a:endCxn id="80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05" name=""/>
          <p:cNvGrpSpPr/>
          <p:nvPr/>
        </p:nvGrpSpPr>
        <p:grpSpPr>
          <a:xfrm>
            <a:off x="228600" y="4724280"/>
            <a:ext cx="3352320" cy="685800"/>
            <a:chOff x="228600" y="4724280"/>
            <a:chExt cx="3352320" cy="685800"/>
          </a:xfrm>
        </p:grpSpPr>
        <p:sp>
          <p:nvSpPr>
            <p:cNvPr id="806" name=""/>
            <p:cNvSpPr/>
            <p:nvPr/>
          </p:nvSpPr>
          <p:spPr>
            <a:xfrm>
              <a:off x="22860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56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2" idx="3"/>
            <a:endCxn id="806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2" idx="4"/>
            <a:endCxn id="807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2" idx="5"/>
            <a:endCxn id="808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2" name=""/>
          <p:cNvSpPr/>
          <p:nvPr/>
        </p:nvSpPr>
        <p:spPr>
          <a:xfrm>
            <a:off x="988200" y="43434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1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1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82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83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84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84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85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42926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hal | embryonic | dominant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 | conditional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1" idx="4"/>
            <a:endCxn id="86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62" idx="3"/>
            <a:endCxn id="865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62" idx="4"/>
            <a:endCxn id="866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0" name=""/>
          <p:cNvCxnSpPr>
            <a:stCxn id="862" idx="5"/>
            <a:endCxn id="867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1522800" y="41911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62" idx="3"/>
            <a:endCxn id="875" idx="0"/>
          </p:cNvCxnSpPr>
          <p:nvPr/>
        </p:nvCxnSpPr>
        <p:spPr>
          <a:xfrm flipH="1" rot="16200000">
            <a:off x="191160" y="4308840"/>
            <a:ext cx="1994760" cy="56160"/>
          </a:xfrm>
          <a:prstGeom prst="curvedConnector5">
            <a:avLst>
              <a:gd name="adj1" fmla="val 52220"/>
              <a:gd name="adj2" fmla="val 49677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62" idx="5"/>
            <a:endCxn id="877" idx="0"/>
          </p:cNvCxnSpPr>
          <p:nvPr/>
        </p:nvCxnSpPr>
        <p:spPr>
          <a:xfrm flipH="1" rot="16200000">
            <a:off x="1429560" y="4253400"/>
            <a:ext cx="1994760" cy="167040"/>
          </a:xfrm>
          <a:prstGeom prst="curvedConnector5">
            <a:avLst>
              <a:gd name="adj1" fmla="val 52220"/>
              <a:gd name="adj2" fmla="val 49892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8" name=""/>
          <p:cNvSpPr/>
          <p:nvPr/>
        </p:nvSpPr>
        <p:spPr>
          <a:xfrm>
            <a:off x="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c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81" idx="0"/>
            <a:endCxn id="878" idx="7"/>
          </p:cNvCxnSpPr>
          <p:nvPr/>
        </p:nvCxnSpPr>
        <p:spPr>
          <a:xfrm flipH="1" rot="16200000">
            <a:off x="1249920" y="5994000"/>
            <a:ext cx="207000" cy="283320"/>
          </a:xfrm>
          <a:prstGeom prst="curvedConnector5">
            <a:avLst>
              <a:gd name="adj1" fmla="val 32926"/>
              <a:gd name="adj2" fmla="val 50000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83" idx="0"/>
            <a:endCxn id="879" idx="1"/>
          </p:cNvCxnSpPr>
          <p:nvPr/>
        </p:nvCxnSpPr>
        <p:spPr>
          <a:xfrm rot="5400000">
            <a:off x="2307600" y="6038640"/>
            <a:ext cx="207000" cy="194400"/>
          </a:xfrm>
          <a:prstGeom prst="curvedConnector5">
            <a:avLst>
              <a:gd name="adj1" fmla="val 32926"/>
              <a:gd name="adj2" fmla="val 49907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4" name=""/>
          <p:cNvGrpSpPr/>
          <p:nvPr/>
        </p:nvGrpSpPr>
        <p:grpSpPr>
          <a:xfrm>
            <a:off x="990720" y="5257800"/>
            <a:ext cx="449640" cy="773280"/>
            <a:chOff x="990720" y="5257800"/>
            <a:chExt cx="449640" cy="773280"/>
          </a:xfrm>
        </p:grpSpPr>
        <p:grpSp>
          <p:nvGrpSpPr>
            <p:cNvPr id="885" name=""/>
            <p:cNvGrpSpPr/>
            <p:nvPr/>
          </p:nvGrpSpPr>
          <p:grpSpPr>
            <a:xfrm>
              <a:off x="990720" y="5257800"/>
              <a:ext cx="447480" cy="773280"/>
              <a:chOff x="990720" y="5257800"/>
              <a:chExt cx="447480" cy="773280"/>
            </a:xfrm>
          </p:grpSpPr>
          <p:sp>
            <p:nvSpPr>
              <p:cNvPr id="886" name=""/>
              <p:cNvSpPr/>
              <p:nvPr/>
            </p:nvSpPr>
            <p:spPr>
              <a:xfrm>
                <a:off x="99072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99072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99144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86000" y="5257800"/>
            <a:ext cx="449640" cy="773280"/>
            <a:chOff x="2286000" y="5257800"/>
            <a:chExt cx="449640" cy="773280"/>
          </a:xfrm>
        </p:grpSpPr>
        <p:grpSp>
          <p:nvGrpSpPr>
            <p:cNvPr id="888" name=""/>
            <p:cNvGrpSpPr/>
            <p:nvPr/>
          </p:nvGrpSpPr>
          <p:grpSpPr>
            <a:xfrm>
              <a:off x="2286000" y="5257800"/>
              <a:ext cx="447480" cy="773280"/>
              <a:chOff x="2286000" y="5257800"/>
              <a:chExt cx="447480" cy="773280"/>
            </a:xfrm>
          </p:grpSpPr>
          <p:sp>
            <p:nvSpPr>
              <p:cNvPr id="889" name=""/>
              <p:cNvSpPr/>
              <p:nvPr/>
            </p:nvSpPr>
            <p:spPr>
              <a:xfrm>
                <a:off x="228600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28600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28672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59056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9492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9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9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0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0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0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2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2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3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4292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manifest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bryonic peripheral nervous system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4"/>
            <a:endCxn id="939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685800" y="457200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 periph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rvous system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39" idx="3"/>
            <a:endCxn id="942" idx="0"/>
          </p:cNvCxnSpPr>
          <p:nvPr/>
        </p:nvCxnSpPr>
        <p:spPr>
          <a:xfrm rot="5400000">
            <a:off x="535320" y="3947040"/>
            <a:ext cx="1232280" cy="18360"/>
          </a:xfrm>
          <a:prstGeom prst="curvedConnector5">
            <a:avLst>
              <a:gd name="adj1" fmla="val 53594"/>
              <a:gd name="adj2" fmla="val 50000"/>
              <a:gd name="adj3" fmla="val 535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4" name=""/>
          <p:cNvSpPr/>
          <p:nvPr/>
        </p:nvSpPr>
        <p:spPr>
          <a:xfrm>
            <a:off x="226080" y="38862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6" idx="0"/>
          </p:cNvCxnSpPr>
          <p:nvPr/>
        </p:nvCxnSpPr>
        <p:spPr>
          <a:xfrm flipH="1" rot="16200000">
            <a:off x="2283480" y="3506760"/>
            <a:ext cx="534240" cy="3783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1905120" y="54864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9" idx="0"/>
            <a:endCxn id="947" idx="0"/>
          </p:cNvCxnSpPr>
          <p:nvPr/>
        </p:nvCxnSpPr>
        <p:spPr>
          <a:xfrm flipH="1" rot="16200000">
            <a:off x="2346120" y="5050800"/>
            <a:ext cx="826200" cy="45360"/>
          </a:xfrm>
          <a:prstGeom prst="curvedConnector5">
            <a:avLst>
              <a:gd name="adj1" fmla="val 49782"/>
              <a:gd name="adj2" fmla="val 49600"/>
              <a:gd name="adj3" fmla="val 4978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95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95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2742840" y="43434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955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956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959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63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67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70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85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97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0"/>
            <a:ext cx="4292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heterozygous phenotyp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X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FO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57200" y="1600200"/>
            <a:ext cx="2666880" cy="4952880"/>
            <a:chOff x="457200" y="1600200"/>
            <a:chExt cx="2666880" cy="4952880"/>
          </a:xfrm>
        </p:grpSpPr>
        <p:sp>
          <p:nvSpPr>
            <p:cNvPr id="1002" name=""/>
            <p:cNvSpPr/>
            <p:nvPr/>
          </p:nvSpPr>
          <p:spPr>
            <a:xfrm>
              <a:off x="1143000" y="2971800"/>
              <a:ext cx="1447920" cy="7621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BX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F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66680" y="4419720"/>
              <a:ext cx="1676520" cy="60948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4" name=""/>
            <p:cNvCxnSpPr>
              <a:stCxn id="1002" idx="4"/>
              <a:endCxn id="1003" idx="0"/>
            </p:cNvCxnSpPr>
            <p:nvPr/>
          </p:nvCxnSpPr>
          <p:spPr>
            <a:xfrm flipH="1" rot="16200000">
              <a:off x="1542960" y="4057200"/>
              <a:ext cx="686520" cy="38880"/>
            </a:xfrm>
            <a:prstGeom prst="curvedConnector5">
              <a:avLst>
                <a:gd name="adj1" fmla="val 50000"/>
                <a:gd name="adj2" fmla="val 4953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5" name=""/>
            <p:cNvSpPr/>
            <p:nvPr/>
          </p:nvSpPr>
          <p:spPr>
            <a:xfrm>
              <a:off x="838080" y="58672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sibl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6" name=""/>
            <p:cNvCxnSpPr>
              <a:stCxn id="1003" idx="4"/>
              <a:endCxn id="1005" idx="0"/>
            </p:cNvCxnSpPr>
            <p:nvPr/>
          </p:nvCxnSpPr>
          <p:spPr>
            <a:xfrm rot="5400000">
              <a:off x="1180440" y="5143320"/>
              <a:ext cx="838800" cy="610560"/>
            </a:xfrm>
            <a:prstGeom prst="curvedConnector5">
              <a:avLst>
                <a:gd name="adj1" fmla="val 49978"/>
                <a:gd name="adj2" fmla="val 4997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837000" y="533412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720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BX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968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FO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0" name=""/>
            <p:cNvCxnSpPr>
              <a:stCxn id="1008" idx="4"/>
              <a:endCxn id="1002" idx="0"/>
            </p:cNvCxnSpPr>
            <p:nvPr/>
          </p:nvCxnSpPr>
          <p:spPr>
            <a:xfrm flipH="1" rot="16200000">
              <a:off x="971640" y="2076120"/>
              <a:ext cx="838800" cy="953280"/>
            </a:xfrm>
            <a:prstGeom prst="curvedConnector5">
              <a:avLst>
                <a:gd name="adj1" fmla="val 49978"/>
                <a:gd name="adj2" fmla="val 49981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1009" idx="4"/>
              <a:endCxn id="1002" idx="0"/>
            </p:cNvCxnSpPr>
            <p:nvPr/>
          </p:nvCxnSpPr>
          <p:spPr>
            <a:xfrm rot="5400000">
              <a:off x="1847160" y="2152800"/>
              <a:ext cx="838800" cy="800640"/>
            </a:xfrm>
            <a:prstGeom prst="curvedConnector5">
              <a:avLst>
                <a:gd name="adj1" fmla="val 49978"/>
                <a:gd name="adj2" fmla="val 49977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101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102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103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1059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106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7"/>
            <a:endCxn id="46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7"/>
            <a:endCxn id="46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7"/>
            <a:endCxn id="46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5"/>
            <a:endCxn id="47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6"/>
            <a:endCxn id="47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1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0"/>
            <a:endCxn id="46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49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7"/>
            <a:endCxn id="53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5"/>
            <a:endCxn id="47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7"/>
            <a:endCxn id="51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2"/>
            <a:endCxn id="53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5"/>
            <a:endCxn id="47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1"/>
            <a:endCxn id="53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0"/>
            <a:endCxn id="51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6"/>
            <a:endCxn id="51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70" idx="3"/>
            <a:endCxn id="53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9" name=""/>
          <p:cNvCxnSpPr>
            <a:stCxn id="1090" idx="2"/>
            <a:endCxn id="1091" idx="2"/>
          </p:cNvCxnSpPr>
          <p:nvPr/>
        </p:nvCxnSpPr>
        <p:spPr>
          <a:xfrm flipH="1" flipV="1" rot="5400000">
            <a:off x="5393160" y="2666520"/>
            <a:ext cx="73440" cy="2245320"/>
          </a:xfrm>
          <a:prstGeom prst="curvedConnector5">
            <a:avLst>
              <a:gd name="adj1" fmla="val -312807"/>
              <a:gd name="adj2" fmla="val 28351"/>
              <a:gd name="adj3" fmla="val -3128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93" idx="6"/>
            <a:endCxn id="1090" idx="2"/>
          </p:cNvCxnSpPr>
          <p:nvPr/>
        </p:nvCxnSpPr>
        <p:spPr>
          <a:xfrm>
            <a:off x="2296800" y="3753000"/>
            <a:ext cx="2012040" cy="73440"/>
          </a:xfrm>
          <a:prstGeom prst="curvedConnector5">
            <a:avLst>
              <a:gd name="adj1" fmla="val 42448"/>
              <a:gd name="adj2" fmla="val 206403"/>
              <a:gd name="adj3" fmla="val 424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4" name=""/>
          <p:cNvSpPr/>
          <p:nvPr/>
        </p:nvSpPr>
        <p:spPr>
          <a:xfrm>
            <a:off x="152280" y="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wing phenotype that is enhanced by d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 Curation for 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visible, enhanceable { dpp[1]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666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74880" y="4757760"/>
            <a:ext cx="1425600" cy="5176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3" idx="4"/>
            <a:endCxn id="1095" idx="0"/>
          </p:cNvCxnSpPr>
          <p:nvPr/>
        </p:nvCxnSpPr>
        <p:spPr>
          <a:xfrm flipH="1" rot="16200000">
            <a:off x="1344600" y="4414320"/>
            <a:ext cx="681840" cy="5760"/>
          </a:xfrm>
          <a:prstGeom prst="curvedConnector5">
            <a:avLst>
              <a:gd name="adj1" fmla="val 49867"/>
              <a:gd name="adj2" fmla="val 46666"/>
              <a:gd name="adj3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7" name=""/>
          <p:cNvSpPr/>
          <p:nvPr/>
        </p:nvSpPr>
        <p:spPr>
          <a:xfrm>
            <a:off x="781200" y="5987880"/>
            <a:ext cx="777600" cy="5828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le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95" idx="4"/>
            <a:endCxn id="1097" idx="0"/>
          </p:cNvCxnSpPr>
          <p:nvPr/>
        </p:nvCxnSpPr>
        <p:spPr>
          <a:xfrm rot="5400000">
            <a:off x="1072080" y="5372280"/>
            <a:ext cx="712800" cy="518400"/>
          </a:xfrm>
          <a:prstGeom prst="curvedConnector5">
            <a:avLst>
              <a:gd name="adj1" fmla="val 49974"/>
              <a:gd name="adj2" fmla="val 49965"/>
              <a:gd name="adj3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9" name=""/>
          <p:cNvSpPr/>
          <p:nvPr/>
        </p:nvSpPr>
        <p:spPr>
          <a:xfrm>
            <a:off x="2969640" y="342900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2362320"/>
            <a:ext cx="777960" cy="452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100" idx="4"/>
            <a:endCxn id="1093" idx="0"/>
          </p:cNvCxnSpPr>
          <p:nvPr/>
        </p:nvCxnSpPr>
        <p:spPr>
          <a:xfrm flipH="1" rot="16200000">
            <a:off x="956880" y="2702880"/>
            <a:ext cx="615240" cy="837360"/>
          </a:xfrm>
          <a:prstGeom prst="curvedConnector5">
            <a:avLst>
              <a:gd name="adj1" fmla="val 49824"/>
              <a:gd name="adj2" fmla="val 49978"/>
              <a:gd name="adj3" fmla="val 498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65530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18520" y="2263680"/>
            <a:ext cx="777600" cy="452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p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2" idx="4"/>
            <a:endCxn id="1091" idx="0"/>
          </p:cNvCxnSpPr>
          <p:nvPr/>
        </p:nvCxnSpPr>
        <p:spPr>
          <a:xfrm rot="5400000">
            <a:off x="7130880" y="2753280"/>
            <a:ext cx="713520" cy="639000"/>
          </a:xfrm>
          <a:prstGeom prst="curvedConnector5">
            <a:avLst>
              <a:gd name="adj1" fmla="val 49873"/>
              <a:gd name="adj2" fmla="val 50000"/>
              <a:gd name="adj3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04" name=""/>
          <p:cNvSpPr/>
          <p:nvPr/>
        </p:nvSpPr>
        <p:spPr>
          <a:xfrm>
            <a:off x="3962520" y="5257800"/>
            <a:ext cx="777600" cy="5824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3124080"/>
            <a:ext cx="825120" cy="1218600"/>
            <a:chOff x="3962520" y="3124080"/>
            <a:chExt cx="825120" cy="1218600"/>
          </a:xfrm>
        </p:grpSpPr>
        <p:grpSp>
          <p:nvGrpSpPr>
            <p:cNvPr id="1106" name=""/>
            <p:cNvGrpSpPr/>
            <p:nvPr/>
          </p:nvGrpSpPr>
          <p:grpSpPr>
            <a:xfrm>
              <a:off x="3962520" y="3124080"/>
              <a:ext cx="825120" cy="1218600"/>
              <a:chOff x="3962520" y="3124080"/>
              <a:chExt cx="825120" cy="1218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3962520" y="312408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962520" y="373284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4007160" y="324432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_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9" name=""/>
          <p:cNvCxnSpPr>
            <a:stCxn id="1104" idx="0"/>
            <a:endCxn id="1108" idx="0"/>
          </p:cNvCxnSpPr>
          <p:nvPr/>
        </p:nvCxnSpPr>
        <p:spPr>
          <a:xfrm flipH="1" flipV="1" rot="5400000">
            <a:off x="3904920" y="4789080"/>
            <a:ext cx="915120" cy="23040"/>
          </a:xfrm>
          <a:prstGeom prst="curvedConnector5">
            <a:avLst>
              <a:gd name="adj1" fmla="val 49980"/>
              <a:gd name="adj2" fmla="val 49206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4874760" y="34290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13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24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27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30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33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36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21" idx="6"/>
            <a:endCxn id="1125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21" idx="6"/>
            <a:endCxn id="1128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21" idx="6"/>
            <a:endCxn id="1131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21" idx="6"/>
            <a:endCxn id="1137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21" idx="6"/>
            <a:endCxn id="1134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5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893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809880" y="3505320"/>
            <a:ext cx="3614400" cy="1981080"/>
            <a:chOff x="3809880" y="3505320"/>
            <a:chExt cx="3614400" cy="1981080"/>
          </a:xfrm>
        </p:grpSpPr>
        <p:sp>
          <p:nvSpPr>
            <p:cNvPr id="1151" name=""/>
            <p:cNvSpPr/>
            <p:nvPr/>
          </p:nvSpPr>
          <p:spPr>
            <a:xfrm>
              <a:off x="4334400" y="4191120"/>
              <a:ext cx="308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1..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idue_info = genotype_sequence or 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9880" y="3505320"/>
              <a:ext cx="304920" cy="19810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55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66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69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72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75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78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stCxn id="1163" idx="6"/>
            <a:endCxn id="1167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63" idx="6"/>
            <a:endCxn id="1170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63" idx="6"/>
            <a:endCxn id="1173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63" idx="6"/>
            <a:endCxn id="1179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3" idx="6"/>
            <a:endCxn id="1176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7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9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129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122640" y="3381480"/>
            <a:ext cx="5958720" cy="2183760"/>
            <a:chOff x="3122640" y="3381480"/>
            <a:chExt cx="5958720" cy="2183760"/>
          </a:xfrm>
        </p:grpSpPr>
        <p:sp>
          <p:nvSpPr>
            <p:cNvPr id="1193" name=""/>
            <p:cNvSpPr/>
            <p:nvPr/>
          </p:nvSpPr>
          <p:spPr>
            <a:xfrm>
              <a:off x="4191120" y="36576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1120" y="41148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1120" y="45720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91120" y="50292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7" name=""/>
            <p:cNvCxnSpPr>
              <a:stCxn id="1170" idx="4"/>
              <a:endCxn id="1193" idx="0"/>
            </p:cNvCxnSpPr>
            <p:nvPr/>
          </p:nvCxnSpPr>
          <p:spPr>
            <a:xfrm flipH="1" rot="16200000">
              <a:off x="3803400" y="3242160"/>
              <a:ext cx="11880" cy="764280"/>
            </a:xfrm>
            <a:prstGeom prst="curvedConnector5">
              <a:avLst>
                <a:gd name="adj1" fmla="val -2056250"/>
                <a:gd name="adj2" fmla="val 5000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8" name=""/>
            <p:cNvCxnSpPr>
              <a:stCxn id="1173" idx="4"/>
              <a:endCxn id="1194" idx="0"/>
            </p:cNvCxnSpPr>
            <p:nvPr/>
          </p:nvCxnSpPr>
          <p:spPr>
            <a:xfrm flipH="1" rot="16200000">
              <a:off x="3879720" y="3775320"/>
              <a:ext cx="11880" cy="612000"/>
            </a:xfrm>
            <a:prstGeom prst="curvedConnector5">
              <a:avLst>
                <a:gd name="adj1" fmla="val -2056250"/>
                <a:gd name="adj2" fmla="val 4997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"/>
            <p:cNvCxnSpPr>
              <a:stCxn id="1179" idx="4"/>
              <a:endCxn id="1195" idx="0"/>
            </p:cNvCxnSpPr>
            <p:nvPr/>
          </p:nvCxnSpPr>
          <p:spPr>
            <a:xfrm flipH="1" flipV="1" rot="5400000">
              <a:off x="3776400" y="4195080"/>
              <a:ext cx="65520" cy="764280"/>
            </a:xfrm>
            <a:prstGeom prst="curvedConnector5">
              <a:avLst>
                <a:gd name="adj1" fmla="val 353038"/>
                <a:gd name="adj2" fmla="val 50000"/>
                <a:gd name="adj3" fmla="val 353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"/>
            <p:cNvCxnSpPr>
              <a:stCxn id="1176" idx="4"/>
              <a:endCxn id="1196" idx="0"/>
            </p:cNvCxnSpPr>
            <p:nvPr/>
          </p:nvCxnSpPr>
          <p:spPr>
            <a:xfrm flipH="1" rot="16200000">
              <a:off x="3651120" y="4461120"/>
              <a:ext cx="11880" cy="1069200"/>
            </a:xfrm>
            <a:prstGeom prst="curvedConnector5">
              <a:avLst>
                <a:gd name="adj1" fmla="val -2056250"/>
                <a:gd name="adj2" fmla="val 49983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"/>
            <p:cNvSpPr/>
            <p:nvPr/>
          </p:nvSpPr>
          <p:spPr>
            <a:xfrm>
              <a:off x="6477120" y="350532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1800" y="3886200"/>
              <a:ext cx="214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romosome_arm 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each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59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 module desig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Mungall  (BDGP -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lei Zh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rey de Grey (FlyBase -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elbart (PI, Fly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Letovsky 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 Curators at Cambridge and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, Lincoln, Everybody who’s helped / com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75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78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81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84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87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90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93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98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760" y="1371600"/>
            <a:ext cx="914040" cy="1523880"/>
            <a:chOff x="5486760" y="1371600"/>
            <a:chExt cx="914040" cy="1523880"/>
          </a:xfrm>
        </p:grpSpPr>
        <p:sp>
          <p:nvSpPr>
            <p:cNvPr id="102" name=""/>
            <p:cNvSpPr/>
            <p:nvPr/>
          </p:nvSpPr>
          <p:spPr>
            <a:xfrm>
              <a:off x="6009120" y="1371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9120" y="2895480"/>
              <a:ext cx="39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86760" y="1371600"/>
              <a:ext cx="52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91120" y="5867280"/>
            <a:ext cx="1827000" cy="533520"/>
            <a:chOff x="4191120" y="5867280"/>
            <a:chExt cx="1827000" cy="533520"/>
          </a:xfrm>
        </p:grpSpPr>
        <p:sp>
          <p:nvSpPr>
            <p:cNvPr id="106" name=""/>
            <p:cNvSpPr/>
            <p:nvPr/>
          </p:nvSpPr>
          <p:spPr>
            <a:xfrm>
              <a:off x="4191120" y="5867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640080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920" y="5486400"/>
            <a:ext cx="2818800" cy="1143000"/>
            <a:chOff x="6019920" y="5486400"/>
            <a:chExt cx="2818800" cy="1143000"/>
          </a:xfrm>
        </p:grpSpPr>
        <p:sp>
          <p:nvSpPr>
            <p:cNvPr id="109" name=""/>
            <p:cNvSpPr/>
            <p:nvPr/>
          </p:nvSpPr>
          <p:spPr>
            <a:xfrm>
              <a:off x="6019920" y="5486400"/>
              <a:ext cx="281880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5486400"/>
              <a:ext cx="2818800" cy="1969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153280" y="2743920"/>
            <a:ext cx="380880" cy="2742480"/>
            <a:chOff x="8153280" y="2743920"/>
            <a:chExt cx="380880" cy="2742480"/>
          </a:xfrm>
        </p:grpSpPr>
        <p:sp>
          <p:nvSpPr>
            <p:cNvPr id="112" name=""/>
            <p:cNvSpPr/>
            <p:nvPr/>
          </p:nvSpPr>
          <p:spPr>
            <a:xfrm flipV="1">
              <a:off x="8534160" y="274392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153280" y="2743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1676520"/>
            <a:ext cx="1295280" cy="457200"/>
            <a:chOff x="3886200" y="1676520"/>
            <a:chExt cx="1295280" cy="457200"/>
          </a:xfrm>
        </p:grpSpPr>
        <p:grpSp>
          <p:nvGrpSpPr>
            <p:cNvPr id="115" name=""/>
            <p:cNvGrpSpPr/>
            <p:nvPr/>
          </p:nvGrpSpPr>
          <p:grpSpPr>
            <a:xfrm>
              <a:off x="3886200" y="1676520"/>
              <a:ext cx="1293840" cy="457200"/>
              <a:chOff x="3886200" y="1676520"/>
              <a:chExt cx="129384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388620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86200" y="213372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181480" y="1676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contex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0" y="3277080"/>
            <a:ext cx="1827000" cy="1371240"/>
            <a:chOff x="4572000" y="3277080"/>
            <a:chExt cx="1827000" cy="1371240"/>
          </a:xfrm>
        </p:grpSpPr>
        <p:sp>
          <p:nvSpPr>
            <p:cNvPr id="121" name=""/>
            <p:cNvSpPr/>
            <p:nvPr/>
          </p:nvSpPr>
          <p:spPr>
            <a:xfrm flipV="1">
              <a:off x="4572000" y="327708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27708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733920"/>
            <a:ext cx="1522440" cy="914400"/>
            <a:chOff x="4876920" y="3733920"/>
            <a:chExt cx="1522440" cy="914400"/>
          </a:xfrm>
        </p:grpSpPr>
        <p:sp>
          <p:nvSpPr>
            <p:cNvPr id="124" name=""/>
            <p:cNvSpPr/>
            <p:nvPr/>
          </p:nvSpPr>
          <p:spPr>
            <a:xfrm flipV="1">
              <a:off x="4876920" y="37339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733920"/>
              <a:ext cx="15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05520" y="3962160"/>
            <a:ext cx="1293840" cy="685800"/>
            <a:chOff x="5105520" y="3962160"/>
            <a:chExt cx="1293840" cy="685800"/>
          </a:xfrm>
        </p:grpSpPr>
        <p:sp>
          <p:nvSpPr>
            <p:cNvPr id="127" name=""/>
            <p:cNvSpPr/>
            <p:nvPr/>
          </p:nvSpPr>
          <p:spPr>
            <a:xfrm flipV="1">
              <a:off x="5105520" y="3962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62160"/>
              <a:ext cx="12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00800" y="1828800"/>
            <a:ext cx="1752480" cy="2209680"/>
            <a:chOff x="6400800" y="1828800"/>
            <a:chExt cx="1752480" cy="2209680"/>
          </a:xfrm>
        </p:grpSpPr>
        <p:sp>
          <p:nvSpPr>
            <p:cNvPr id="130" name=""/>
            <p:cNvSpPr/>
            <p:nvPr/>
          </p:nvSpPr>
          <p:spPr>
            <a:xfrm>
              <a:off x="6400800" y="1828800"/>
              <a:ext cx="175248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bxref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servabl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alu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ay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828800"/>
              <a:ext cx="175248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7080" y="3048120"/>
            <a:ext cx="2131560" cy="1599840"/>
            <a:chOff x="4267080" y="3048120"/>
            <a:chExt cx="2131560" cy="1599840"/>
          </a:xfrm>
        </p:grpSpPr>
        <p:sp>
          <p:nvSpPr>
            <p:cNvPr id="133" name=""/>
            <p:cNvSpPr/>
            <p:nvPr/>
          </p:nvSpPr>
          <p:spPr>
            <a:xfrm flipV="1">
              <a:off x="4267080" y="3048120"/>
              <a:ext cx="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3048120"/>
              <a:ext cx="213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62520" y="2666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53080" y="4038120"/>
            <a:ext cx="1295640" cy="381600"/>
            <a:chOff x="6553080" y="4038120"/>
            <a:chExt cx="1295640" cy="38160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038480"/>
              <a:ext cx="1294200" cy="381240"/>
              <a:chOff x="6553080" y="4038480"/>
              <a:chExt cx="1294200" cy="38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4419720"/>
                <a:ext cx="129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784872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24480" y="4419720"/>
            <a:ext cx="175284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enstatemen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477120" y="228600"/>
            <a:ext cx="1752480" cy="1143000"/>
            <a:chOff x="6477120" y="228600"/>
            <a:chExt cx="1752480" cy="1143000"/>
          </a:xfrm>
        </p:grpSpPr>
        <p:sp>
          <p:nvSpPr>
            <p:cNvPr id="144" name=""/>
            <p:cNvSpPr/>
            <p:nvPr/>
          </p:nvSpPr>
          <p:spPr>
            <a:xfrm>
              <a:off x="6477120" y="228600"/>
              <a:ext cx="175248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desc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28600"/>
              <a:ext cx="1752480" cy="1965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de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5486400" y="838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14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192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195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198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01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04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07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12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216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2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2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3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3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3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3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4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4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219320" y="2209680"/>
            <a:ext cx="7951680" cy="1922760"/>
            <a:chOff x="1219320" y="2209680"/>
            <a:chExt cx="7951680" cy="1922760"/>
          </a:xfrm>
        </p:grpSpPr>
        <p:sp>
          <p:nvSpPr>
            <p:cNvPr id="251" name=""/>
            <p:cNvSpPr/>
            <p:nvPr/>
          </p:nvSpPr>
          <p:spPr>
            <a:xfrm>
              <a:off x="1219320" y="3429000"/>
              <a:ext cx="1904760" cy="3808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209680"/>
              <a:ext cx="5067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n-ploid organism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distinguis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al 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5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5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6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6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6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6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7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7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02640" y="365040"/>
            <a:ext cx="224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ka: all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590920"/>
            <a:ext cx="914400" cy="533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733920"/>
            <a:ext cx="91440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1" idx="4"/>
            <a:endCxn id="282" idx="0"/>
          </p:cNvCxnSpPr>
          <p:nvPr/>
        </p:nvCxnSpPr>
        <p:spPr>
          <a:xfrm>
            <a:off x="7009920" y="3124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2" idx="4"/>
            <a:endCxn id="283" idx="0"/>
          </p:cNvCxnSpPr>
          <p:nvPr/>
        </p:nvCxnSpPr>
        <p:spPr>
          <a:xfrm flipH="1" rot="16200000">
            <a:off x="6762600" y="4514400"/>
            <a:ext cx="534240" cy="38880"/>
          </a:xfrm>
          <a:prstGeom prst="curvedConnector5">
            <a:avLst>
              <a:gd name="adj1" fmla="val 49966"/>
              <a:gd name="adj2" fmla="val 49532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746640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88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91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94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97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00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03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06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11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02640" y="36504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Stock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5" idx="4"/>
            <a:endCxn id="317" idx="0"/>
          </p:cNvCxnSpPr>
          <p:nvPr/>
        </p:nvCxnSpPr>
        <p:spPr>
          <a:xfrm>
            <a:off x="617184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6" idx="4"/>
            <a:endCxn id="318" idx="0"/>
          </p:cNvCxnSpPr>
          <p:nvPr/>
        </p:nvCxnSpPr>
        <p:spPr>
          <a:xfrm>
            <a:off x="784836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7" idx="4"/>
            <a:endCxn id="319" idx="0"/>
          </p:cNvCxnSpPr>
          <p:nvPr/>
        </p:nvCxnSpPr>
        <p:spPr>
          <a:xfrm flipH="1" rot="16200000">
            <a:off x="6305400" y="4057200"/>
            <a:ext cx="61020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8" idx="4"/>
            <a:endCxn id="319" idx="0"/>
          </p:cNvCxnSpPr>
          <p:nvPr/>
        </p:nvCxnSpPr>
        <p:spPr>
          <a:xfrm rot="5400000">
            <a:off x="7143120" y="4095360"/>
            <a:ext cx="61020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75480" y="380988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7604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327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330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333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336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39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42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45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50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63800" y="380880"/>
            <a:ext cx="3404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Genotyp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4876920"/>
            <a:ext cx="190512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4"/>
            <a:endCxn id="356" idx="0"/>
          </p:cNvCxnSpPr>
          <p:nvPr/>
        </p:nvCxnSpPr>
        <p:spPr>
          <a:xfrm>
            <a:off x="4800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5" idx="4"/>
            <a:endCxn id="357" idx="0"/>
          </p:cNvCxnSpPr>
          <p:nvPr/>
        </p:nvCxnSpPr>
        <p:spPr>
          <a:xfrm>
            <a:off x="84578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4"/>
            <a:endCxn id="358" idx="0"/>
          </p:cNvCxnSpPr>
          <p:nvPr/>
        </p:nvCxnSpPr>
        <p:spPr>
          <a:xfrm flipH="1" rot="16200000">
            <a:off x="5352840" y="3638160"/>
            <a:ext cx="686520" cy="17913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7" idx="4"/>
            <a:endCxn id="358" idx="0"/>
          </p:cNvCxnSpPr>
          <p:nvPr/>
        </p:nvCxnSpPr>
        <p:spPr>
          <a:xfrm rot="5400000">
            <a:off x="7181280" y="3600360"/>
            <a:ext cx="68652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503880" y="39625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76040" y="41911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[111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05720" y="2286000"/>
            <a:ext cx="914400" cy="1905120"/>
            <a:chOff x="6705720" y="2286000"/>
            <a:chExt cx="914400" cy="1905120"/>
          </a:xfrm>
        </p:grpSpPr>
        <p:sp>
          <p:nvSpPr>
            <p:cNvPr id="368" name=""/>
            <p:cNvSpPr/>
            <p:nvPr/>
          </p:nvSpPr>
          <p:spPr>
            <a:xfrm>
              <a:off x="6705720" y="3657600"/>
              <a:ext cx="914400" cy="5335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_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5720" y="22860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9" idx="4"/>
              <a:endCxn id="368" idx="0"/>
            </p:cNvCxnSpPr>
            <p:nvPr/>
          </p:nvCxnSpPr>
          <p:spPr>
            <a:xfrm>
              <a:off x="7162560" y="2819520"/>
              <a:ext cx="108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71" name=""/>
          <p:cNvCxnSpPr>
            <a:stCxn id="366" idx="4"/>
            <a:endCxn id="365" idx="0"/>
          </p:cNvCxnSpPr>
          <p:nvPr/>
        </p:nvCxnSpPr>
        <p:spPr>
          <a:xfrm>
            <a:off x="5943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86620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552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5" idx="4"/>
            <a:endCxn id="358" idx="0"/>
          </p:cNvCxnSpPr>
          <p:nvPr/>
        </p:nvCxnSpPr>
        <p:spPr>
          <a:xfrm flipH="1" rot="16200000">
            <a:off x="5923440" y="4209840"/>
            <a:ext cx="68652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4"/>
            <a:endCxn id="358" idx="0"/>
          </p:cNvCxnSpPr>
          <p:nvPr/>
        </p:nvCxnSpPr>
        <p:spPr>
          <a:xfrm rot="5400000">
            <a:off x="6533640" y="4248000"/>
            <a:ext cx="6865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80880" y="228600"/>
            <a:ext cx="5067360" cy="5638680"/>
            <a:chOff x="380880" y="228600"/>
            <a:chExt cx="5067360" cy="5638680"/>
          </a:xfrm>
        </p:grpSpPr>
        <p:grpSp>
          <p:nvGrpSpPr>
            <p:cNvPr id="37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38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38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390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393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401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123000" y="228600"/>
            <a:ext cx="6478200" cy="5181480"/>
            <a:chOff x="3123000" y="228600"/>
            <a:chExt cx="6478200" cy="5181480"/>
          </a:xfrm>
        </p:grpSpPr>
        <p:sp>
          <p:nvSpPr>
            <p:cNvPr id="405" name=""/>
            <p:cNvSpPr/>
            <p:nvPr/>
          </p:nvSpPr>
          <p:spPr>
            <a:xfrm>
              <a:off x="8276040" y="3170160"/>
              <a:ext cx="86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123000" y="228600"/>
              <a:ext cx="6478200" cy="5181480"/>
              <a:chOff x="3123000" y="228600"/>
              <a:chExt cx="6478200" cy="518148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28600"/>
                <a:ext cx="4114800" cy="9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 Genotype II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 y[1] f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0100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0100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8680" y="4876920"/>
                <a:ext cx="1905120" cy="53316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y[1] f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08" idx="4"/>
                <a:endCxn id="409" idx="0"/>
              </p:cNvCxnSpPr>
              <p:nvPr/>
            </p:nvCxnSpPr>
            <p:spPr>
              <a:xfrm>
                <a:off x="845784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13" idx="4"/>
                <a:endCxn id="410" idx="0"/>
              </p:cNvCxnSpPr>
              <p:nvPr/>
            </p:nvCxnSpPr>
            <p:spPr>
              <a:xfrm flipH="1" rot="16200000">
                <a:off x="5009040" y="3295440"/>
                <a:ext cx="686520" cy="247716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09" idx="4"/>
                <a:endCxn id="410" idx="0"/>
              </p:cNvCxnSpPr>
              <p:nvPr/>
            </p:nvCxnSpPr>
            <p:spPr>
              <a:xfrm rot="5400000">
                <a:off x="7181280" y="3600360"/>
                <a:ext cx="686520" cy="1867680"/>
              </a:xfrm>
              <a:prstGeom prst="curvedConnector5">
                <a:avLst>
                  <a:gd name="adj1" fmla="val 50000"/>
                  <a:gd name="adj2" fmla="val 4999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15" name=""/>
              <p:cNvGrpSpPr/>
              <p:nvPr/>
            </p:nvGrpSpPr>
            <p:grpSpPr>
              <a:xfrm>
                <a:off x="3657600" y="2286000"/>
                <a:ext cx="914400" cy="1905120"/>
                <a:chOff x="3657600" y="2286000"/>
                <a:chExt cx="914400" cy="1905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65760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t[13z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65760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7" name=""/>
                <p:cNvCxnSpPr>
                  <a:stCxn id="416" idx="4"/>
                  <a:endCxn id="413" idx="0"/>
                </p:cNvCxnSpPr>
                <p:nvPr/>
              </p:nvCxnSpPr>
              <p:spPr>
                <a:xfrm>
                  <a:off x="411444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18" name=""/>
              <p:cNvSpPr/>
              <p:nvPr/>
            </p:nvSpPr>
            <p:spPr>
              <a:xfrm>
                <a:off x="3123000" y="403848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934320" y="2286000"/>
                <a:ext cx="914400" cy="1905120"/>
                <a:chOff x="6934320" y="2286000"/>
                <a:chExt cx="914400" cy="19051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22" name=""/>
                <p:cNvCxnSpPr>
                  <a:stCxn id="421" idx="4"/>
                  <a:endCxn id="420" idx="0"/>
                </p:cNvCxnSpPr>
                <p:nvPr/>
              </p:nvCxnSpPr>
              <p:spPr>
                <a:xfrm>
                  <a:off x="739116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23" name=""/>
              <p:cNvSpPr/>
              <p:nvPr/>
            </p:nvSpPr>
            <p:spPr>
              <a:xfrm>
                <a:off x="5867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7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(1)D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5" name=""/>
              <p:cNvCxnSpPr>
                <a:stCxn id="424" idx="4"/>
                <a:endCxn id="423" idx="0"/>
              </p:cNvCxnSpPr>
              <p:nvPr/>
            </p:nvCxnSpPr>
            <p:spPr>
              <a:xfrm>
                <a:off x="6324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571392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780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8" name=""/>
              <p:cNvCxnSpPr>
                <a:stCxn id="423" idx="4"/>
                <a:endCxn id="410" idx="0"/>
              </p:cNvCxnSpPr>
              <p:nvPr/>
            </p:nvCxnSpPr>
            <p:spPr>
              <a:xfrm flipH="1" rot="16200000">
                <a:off x="6113520" y="4400280"/>
                <a:ext cx="686520" cy="267120"/>
              </a:xfrm>
              <a:prstGeom prst="curvedConnector5">
                <a:avLst>
                  <a:gd name="adj1" fmla="val 50000"/>
                  <a:gd name="adj2" fmla="val 49932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"/>
              <p:cNvCxnSpPr>
                <a:stCxn id="420" idx="4"/>
                <a:endCxn id="410" idx="0"/>
              </p:cNvCxnSpPr>
              <p:nvPr/>
            </p:nvCxnSpPr>
            <p:spPr>
              <a:xfrm rot="5400000">
                <a:off x="6647760" y="4133520"/>
                <a:ext cx="686520" cy="8010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0" name=""/>
              <p:cNvSpPr/>
              <p:nvPr/>
            </p:nvSpPr>
            <p:spPr>
              <a:xfrm>
                <a:off x="4724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p(1;2;Y)w[+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24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2" name=""/>
              <p:cNvCxnSpPr>
                <a:stCxn id="430" idx="4"/>
                <a:endCxn id="431" idx="0"/>
              </p:cNvCxnSpPr>
              <p:nvPr/>
            </p:nvCxnSpPr>
            <p:spPr>
              <a:xfrm>
                <a:off x="5181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4570920" y="291132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1" idx="4"/>
                <a:endCxn id="410" idx="0"/>
              </p:cNvCxnSpPr>
              <p:nvPr/>
            </p:nvCxnSpPr>
            <p:spPr>
              <a:xfrm flipH="1" rot="16200000">
                <a:off x="5543280" y="3828600"/>
                <a:ext cx="686520" cy="1410480"/>
              </a:xfrm>
              <a:prstGeom prst="curvedConnector5">
                <a:avLst>
                  <a:gd name="adj1" fmla="val 50000"/>
                  <a:gd name="adj2" fmla="val 49987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9:00Z</dcterms:created>
  <dc:creator>William M. Gelbart</dc:creator>
  <dc:description/>
  <dc:language>en-US</dc:language>
  <cp:lastModifiedBy>William M. Gelbart</cp:lastModifiedBy>
  <dcterms:modified xsi:type="dcterms:W3CDTF">2004-04-26T20:26:57Z</dcterms:modified>
  <cp:revision>76</cp:revision>
  <dc:subject/>
  <dc:title>The   chado genetics module</dc:title>
</cp:coreProperties>
</file>